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1FA-CB9B-4028-852A-9E71719E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8A7-A31A-41AF-93BF-F963299D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BF3-35AA-4635-A0EE-F5781ED6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B0B-766D-446A-A2F4-B7607B83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05583-04CA-4BFB-82C8-1BF33DE5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47573-878A-44B6-A81A-24A4C7AA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2DC19-63F6-4A65-9956-20E64CA5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E7F56-8CD0-409E-AE4C-A8BE4247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59278-3E0B-471C-88BD-5A7CB3EE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84E5A-648B-4F76-90AF-30D9809E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6E5AB-56D0-4265-BB44-FEB168D2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0B0-8D2C-409B-84C8-0C0A9911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93114-1924-4434-B6E1-7A94C9AC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40DEB-FA0D-45CC-971D-117812BE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D28D1-6912-4061-B7AA-4BB96A31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DF523-AA4C-4D1F-AD1F-75AC823C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89235-FDCE-4DE4-B6DD-6C210697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D13-3FC4-4C7E-B1E6-16F602DC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53E-42BF-48FE-9A4F-7B096778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571-026E-484B-94DE-B82A2A52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F51-262C-459C-A459-2099083C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BAF-A774-42B2-87C0-3B951C7C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450-446E-4784-93E9-FF7C3057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841-A3D6-480C-A8B1-7BB12EE2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7EE7-0E2B-4EF8-9F9A-90DB6A33A6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D600-E77D-44F9-9CD5-307EF63F36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nglis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.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hort essays in text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ith a part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P 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Wal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pac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on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ortal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reshmen 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in no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out new no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movie/do work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uni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finished with story, do questions 2, 3 and 4. pg. 3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1,2,3,4 on pg. 40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4:20:27Z</dcterms:created>
  <dc:creator>VMS</dc:creator>
  <dc:description/>
  <dc:language>en-US</dc:language>
  <cp:lastModifiedBy>VMS</cp:lastModifiedBy>
  <dcterms:modified xsi:type="dcterms:W3CDTF">2009-11-23T21:15:48Z</dcterms:modified>
  <cp:revision>2</cp:revision>
  <dc:subject/>
  <dc:title>English</dc:title>
</cp:coreProperties>
</file>